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F10-44B3-47B3-BAC6-3E6FF7E6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7A8-6D7F-4E59-9208-5291535B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906-34DD-4ACA-9AB8-36CBB55D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170-0101-4615-8693-B4E0BD83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479-C2F9-41CB-9CE2-D0A4CC32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0BEE-9AA3-446E-8995-2710CA04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2C6-0B6E-4302-9809-69D97B51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BD4-A756-4642-8656-A2B11C98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93E-AA95-4302-84C4-65968530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1C7-1828-4117-A30D-4696739C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621-1B6C-448C-ABAD-949B00C8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C6D-EB62-4A3E-B3C5-C94DD64A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2E7D-2F92-4C9A-894E-EEB54C21D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4680000" cy="336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24000" y="549360"/>
            <a:ext cx="4897440" cy="1079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uhaus 93"/>
              </a:rPr>
              <a:t>G.R.I.T.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uhaus 93"/>
              <a:ea typeface="Bauhaus 93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1700280"/>
            <a:ext cx="4967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Bauhaus 93"/>
              </a:rPr>
              <a:t>Gore Rural Information Technology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516640"/>
            <a:ext cx="835344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Bauhaus 93"/>
              </a:rPr>
              <a:t>Vision:  Putting Effective Pedagogies into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Achie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1268280"/>
          <a:ext cx="8136000" cy="4886280"/>
        </p:xfrm>
        <a:graphic>
          <a:graphicData uri="http://schemas.openxmlformats.org/drawingml/2006/table">
            <a:tbl>
              <a:tblPr/>
              <a:tblGrid>
                <a:gridCol w="5472360"/>
                <a:gridCol w="1368360"/>
                <a:gridCol w="12952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/Teac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chool, averag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effective school, lea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lea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mo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effective school, mo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averag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schoo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Achie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1268280"/>
          <a:ext cx="8136000" cy="4886280"/>
        </p:xfrm>
        <a:graphic>
          <a:graphicData uri="http://schemas.openxmlformats.org/drawingml/2006/table">
            <a:tbl>
              <a:tblPr/>
              <a:tblGrid>
                <a:gridCol w="5472360"/>
                <a:gridCol w="1368360"/>
                <a:gridCol w="12952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/Teac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chool, averag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effective school, lea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lea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mo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effective school, mo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averag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schoo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we continue to have effective schools filled with effective teachers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uster can help with thi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060640"/>
            <a:ext cx="8136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ive Pedag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341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5256360" cy="364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55897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effective pedagogy for our classrooms in our scho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.Z. Curriculum – Effective Pedag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pportive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reflective thought and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relevance of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shar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prior learning 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fficient opportunities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e into the teaching-learn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ive Pedagog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Instruc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Management                    D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urriculum Design           Hargr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se three together comprise effective pedag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CT fit in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is a series of tools which facili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ers to more effectively provide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ing and learn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:  Diamond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1268280"/>
            <a:ext cx="503280" cy="1584360"/>
          </a:xfrm>
          <a:custGeom>
            <a:avLst/>
            <a:gdLst>
              <a:gd name="textAreaLeft" fmla="*/ 0 w 503280"/>
              <a:gd name="textAreaRight" fmla="*/ 181800 w 503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assroom Instruction that Works – Effect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583160"/>
        </p:xfrm>
        <a:graphic>
          <a:graphicData uri="http://schemas.openxmlformats.org/drawingml/2006/table">
            <a:tbl>
              <a:tblPr/>
              <a:tblGrid>
                <a:gridCol w="4186080"/>
                <a:gridCol w="1368720"/>
                <a:gridCol w="1296720"/>
                <a:gridCol w="1378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. Effect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centile G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of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entify 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mmarizing and note ta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inforcing effort and providing recogn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mework and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linguistic re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-operative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ting objectives and providing feed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ting and testing hypothe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stions, Cues and organiz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95280" y="6308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 Robert Marzano’s meta analysis of 35 years of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CT f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Identifying similarities and difference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graphic organisers- venn diagrams/tcharts, Bloom’s – higher order,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Summarizing and not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oup using skrbl (online), kidspiration, 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inforcing effort and providing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ubrics, certificates, online recognition – blogs, websites, create digital outlines etc, multiple intellig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Homework an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ine format – wikispace/website, computer programmes – practice e.g. times attack, spellcaster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Non-linguistic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O.’s, inspiration/kidspiration, Graphics-images, video – teacher tube etc, digital stories/ana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o-operativ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online environments, skype, WEB 2.0 – interactive, computers – tools for sha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Setting objectives and 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projectors – explicitly stated L.I.s &amp; S.C.s. Online feedback – blogs, websites.  Rubrics – feedback,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Generating and testing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ine inquiry, spidermonkey-collating data, excel-graphs, word or PowerPoint to pub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Questioning, cues and organi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questioning skills, G.O.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edag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ider the following statement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 you would sit on a continu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 teach is more important than how I teac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lways had successful students so we don’t need to change how we teac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tudents’ behaviour limits my teaching approach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the greatest responsibility for their own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416320" y="1708200"/>
            <a:ext cx="4313160" cy="4313160"/>
            <a:chOff x="2416320" y="1708200"/>
            <a:chExt cx="4313160" cy="4313160"/>
          </a:xfrm>
        </p:grpSpPr>
        <p:sp>
          <p:nvSpPr>
            <p:cNvPr id="63" name="_s10252"/>
            <p:cNvSpPr/>
            <p:nvPr/>
          </p:nvSpPr>
          <p:spPr>
            <a:xfrm flipH="1">
              <a:off x="3492360" y="3863880"/>
              <a:ext cx="54144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251"/>
            <p:cNvSpPr/>
            <p:nvPr/>
          </p:nvSpPr>
          <p:spPr>
            <a:xfrm>
              <a:off x="2416320" y="332568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lass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255"/>
            <p:cNvSpPr/>
            <p:nvPr/>
          </p:nvSpPr>
          <p:spPr>
            <a:xfrm>
              <a:off x="4572000" y="4402080"/>
              <a:ext cx="0" cy="541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254"/>
            <p:cNvSpPr/>
            <p:nvPr/>
          </p:nvSpPr>
          <p:spPr>
            <a:xfrm>
              <a:off x="4033800" y="494352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eac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CT 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250"/>
            <p:cNvSpPr/>
            <p:nvPr/>
          </p:nvSpPr>
          <p:spPr>
            <a:xfrm>
              <a:off x="5110200" y="3863880"/>
              <a:ext cx="54144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249"/>
            <p:cNvSpPr/>
            <p:nvPr/>
          </p:nvSpPr>
          <p:spPr>
            <a:xfrm>
              <a:off x="5651640" y="332568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ers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CT 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248"/>
            <p:cNvSpPr/>
            <p:nvPr/>
          </p:nvSpPr>
          <p:spPr>
            <a:xfrm flipV="1">
              <a:off x="4572000" y="2784240"/>
              <a:ext cx="0" cy="541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247"/>
            <p:cNvSpPr/>
            <p:nvPr/>
          </p:nvSpPr>
          <p:spPr>
            <a:xfrm>
              <a:off x="4033800" y="17082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ware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246"/>
            <p:cNvSpPr/>
            <p:nvPr/>
          </p:nvSpPr>
          <p:spPr>
            <a:xfrm>
              <a:off x="4033800" y="332568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nklepants"/>
                </a:rPr>
                <a:t>YO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332000" y="1197000"/>
            <a:ext cx="6480000" cy="5472000"/>
          </a:xfrm>
          <a:prstGeom prst="donut">
            <a:avLst>
              <a:gd name="adj" fmla="val 7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132000" y="6093000"/>
            <a:ext cx="3095640" cy="279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ffective Pedagogy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uster Progre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1052640"/>
          <a:ext cx="8229600" cy="4879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wareness of 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 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 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room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ows about different software &amp; hard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n’t currently use ICT tools unless you have to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e Values don’t acknowledge the merits of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 familiar with computers or other common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le to use some software for persona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some ICT tools for personal use e.g. camera, video, sca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e Values - Knows the merits of ICT but still un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miliar with computers for personal use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le to use software to enhance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ICT skills in some classroom contex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e Values – ICT to enhance teaching and learning opportun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ing computers in teacher contexts e.g. planning, assessment,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rgets software to meet learning ne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ates students ICT skills in every appropriate con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e Values – ICT is a necessity – we deprive students if we don’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fidently tries new ICT tools in classroom progra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68360" y="6093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ere do you fit best, where does your school and teachers 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3:29:04Z</dcterms:created>
  <dc:creator>Kim Scott</dc:creator>
  <dc:description/>
  <dc:language>en-US</dc:language>
  <cp:lastModifiedBy>Kim Scott</cp:lastModifiedBy>
  <dcterms:modified xsi:type="dcterms:W3CDTF">2008-08-21T06:54:07Z</dcterms:modified>
  <cp:revision>10</cp:revision>
  <dc:subject/>
  <dc:title>Slide 1</dc:title>
</cp:coreProperties>
</file>